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A13-235B-4750-A290-8C37A101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F93-A946-49E6-ACF8-4E21DA3A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21B-6A19-4742-AB0D-CE65697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34B-95CB-4407-943D-DA3CB8AF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0575-002F-43BA-B9E2-C82F4DDB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7110-1B87-48EB-81E2-1C161BC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723-81E5-4549-B8FB-7E23624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5B65-6EEC-4B0F-91D4-8DC3089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E122-2E34-456D-A99E-FE248ED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2F4-B4CF-46EE-9E04-2672ABBA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7241-6D8C-407C-B978-FE8B3E2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992-8B6D-45A9-B8A4-E4AAAA2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176-A4B6-4248-9C59-DBAFBBA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BB93-B4B6-4C8B-8171-2C5C98B0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E2A-817D-4CE6-A6E0-345CAB6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AEFE-0599-4BED-A08E-78CE815F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1760-FF0D-41F8-80FB-94468999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9EA1-91B8-4D8B-8A17-3A37FA69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00C9-F9E0-45C3-A932-F0DC50C6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3DF9-C693-42D4-B703-841D273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A74B-4C5C-414E-A234-3C63301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F019-9AC9-4F36-83D5-D9B369A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9FA-3165-45B5-BC23-CAA5341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C979-80CD-47FC-BEF6-B05C2F3A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D903-9480-4882-A3F8-0C9D868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89B6-49B3-406C-BC64-3BA74C5F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034C-9AB0-46D5-8E7F-6A23ED4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8D8E-F1CF-4A33-BA3C-F5710BFB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1D11-93F0-48D0-8726-DD7364C2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E2BF-2FA0-476A-AA62-C947A13A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4339-9C7F-4CC6-AED6-0EDC1F35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3CAF-8170-4036-8538-5B542867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C9EA-C193-4272-AFF5-047EC457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ECB-F8EC-47C0-9E15-7107FC1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C535-040E-4C48-AB0E-0315EA2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3DFB-8E26-4E4A-A8C9-5FE6D4F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627F-9507-4805-82B7-4A5647B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53F3-F09F-43CB-A24F-5D12DDD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F990-882E-4B29-B996-7F043E0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1330-590C-46E4-B2F9-FBB0569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EF13-2276-4715-929C-C2F317C5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D4BC-EFFA-4C8B-A1C7-21537577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F29C-ED77-4893-8A48-9D22BC1F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2AF-64DC-4DBC-A07D-DA1A6651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8DF-E946-4BBA-B0A3-475CCDFB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A3C-A0DA-4B14-8CB6-A2221EB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777-D60E-420F-9A84-2F15F3C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E0E-A15C-4F12-9A7E-671E51F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03BAE-4246-4FFF-840A-4CF672BCD15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7D8E1-17BE-400E-A034-D2A259531E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BAD33-8F24-4041-9885-16FE4FC5DA0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2F207-761D-4833-B50B-21A8DF0575B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6F15D-A656-40A1-A66E-5BCA08A8EA9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510F4-C341-41A1-9E6B-81ACE9EB51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52462-B7AB-4048-AF6D-0C39B46BB82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A59CD-33AC-4099-A553-E53A5F221E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ustrial Revolu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ppers &amp; Pony Ri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pper 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crificed cargo space for spe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ed small amount of goods in short amount of tim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ded away after steamboats were made be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ny Ex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ed to carry mail from Missouri to California (10 day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laced by telegrap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626240" y="1673280"/>
            <a:ext cx="1414440" cy="1136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056360" y="5038560"/>
            <a:ext cx="1139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portation Revolu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re of the east to tap the w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als &amp; railro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sissippi had less traf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region specialized in a specific type of econom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 raised co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st grew grain &amp; livestoc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st made machines &amp; textil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goods transported using railroad; railroad linked Amer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ket Revolu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ormed subsistence economy to nation of industry &amp;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became a place of refuge from wor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d prosperity to Americ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dened gap between rich &amp; po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much opportunity for social mobil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vels in Manufactur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in textile indust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American”, “Wear America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Engl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changeable part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ass produ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214720" y="3855960"/>
            <a:ext cx="41637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ers and Wage Sla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urs long, wages 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y workers forbidden to form labor unions to raise w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van Buren established 10-hour work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i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wealth v. Hunt- Supreme Court rules that labor unions are not illeg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men and the Econom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rm women &amp; girls spun yarn, weaved cloth, made candles, butter, cheese &amp; so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y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ked 6 days a wee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-13 hour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owell, Massachuset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extile mill, showplace fac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forbidden to join un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978280" y="5292720"/>
            <a:ext cx="23446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lt of Domesticit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working women were sing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ult of Domesticit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lorified the customary functions of a homemak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 as the woman’s proper sphe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cl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ies became smaller &amp; child-cente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 flipH="1">
            <a:off x="6768720" y="3062160"/>
            <a:ext cx="2374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olution in the Field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-Allegheny region became nation's breadbask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quor and hogs became early western farmer's staple market ite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ohn Deer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oduced a steel plow in 1837 which broke through the thick soil of the W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482920" y="4175280"/>
            <a:ext cx="41288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ghways and Steambo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olution in transport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caster Turnpi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hard-surfaced highway that ran from Philadelphia to Lancaster; had to pay toll to use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ational/Cumberland Roa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tretched from western Maryland to Illinois, completed in 185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steamboat: Clermo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5757840" y="4540320"/>
            <a:ext cx="33894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ie Canal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s Great Lakes w/ Hudson Ri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York dug canal, cut off from federal a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nton’s Big Ditch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or DeWitt Clinton of New Yo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ered shipping pr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d passenger transit tim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887560" y="4946760"/>
            <a:ext cx="31402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ron Hor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lr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appeared in US in 182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d op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fety fl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ok away money from Erie Canal inves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 being bound together by railro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462480" y="4849920"/>
            <a:ext cx="23828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21:36:26Z</dcterms:created>
  <dc:creator>Emily Johnson</dc:creator>
  <dc:description/>
  <dc:language>en-US</dc:language>
  <cp:lastModifiedBy>emily.johnson</cp:lastModifiedBy>
  <dcterms:modified xsi:type="dcterms:W3CDTF">2012-11-12T15:31:35Z</dcterms:modified>
  <cp:revision>4</cp:revision>
  <dc:subject/>
  <dc:title>Chapter 14, Part 2 </dc:title>
</cp:coreProperties>
</file>